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5E3-076F-433F-9751-ACE568A5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23B-92F8-4FAA-8BD7-CD49195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F11-7C91-43FF-BD6A-5123EF30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A6F-747A-45B0-8ECF-0CC5B2B5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A94-438D-43A2-9311-924DDDF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D1E-F8C1-4ECD-A334-3120BDF9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065-C78B-480B-B515-53750ED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F0E-A4E9-43DE-93DD-8B33C40D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2FE-3A7C-4897-847F-4A1266E2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02C-E6CB-42BF-8EB0-107D6EF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200-9CAE-46CC-BA38-59EE35D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D8F-090B-46CA-8C8D-5B1F481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0BA9-C7F3-4062-B877-3A59F72B1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gram\Desktop\ΣΕΚ 2010\ΚΡΗΤΗ\DSCN9904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82560" y="1928880"/>
            <a:ext cx="59184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 - Τίτλος" descr=""/>
          <p:cNvPicPr/>
          <p:nvPr/>
        </p:nvPicPr>
        <p:blipFill>
          <a:blip r:embed="rId2"/>
          <a:stretch/>
        </p:blipFill>
        <p:spPr>
          <a:xfrm>
            <a:off x="566640" y="463680"/>
            <a:ext cx="8248680" cy="15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3 - Εικόνα" descr="IMG_3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Φίλτρα νερο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4 - TextBox"/>
          <p:cNvSpPr/>
          <p:nvPr/>
        </p:nvSpPr>
        <p:spPr>
          <a:xfrm>
            <a:off x="0" y="5789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Τα φίλτρα  καθαρίζουν το νερό που συλλέγεται στην ομβροδεξαμενή – ταμιευτήρα στα Ανώγει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531800" y="0"/>
            <a:ext cx="106758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Σταλακτίτες - σταλαγμίτ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Σταλακτί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6186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Ο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σταλακτίτε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κρέμονται από την οροφή των σπηλαίω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δημιουργούνται από τη σταδιακή εναπόθεση ανθρακικού ασβεστίου (ασβεστίτης) στο εσωτερικό των σπηλαίων και των εγκοίλων που βρίσκονται σε ασβεστολιθικά πετρώματ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12 - Εικόνα" descr="σταλακτιτεσ.jpg"/>
          <p:cNvPicPr/>
          <p:nvPr/>
        </p:nvPicPr>
        <p:blipFill>
          <a:blip r:embed="rId1"/>
          <a:stretch/>
        </p:blipFill>
        <p:spPr>
          <a:xfrm>
            <a:off x="6215040" y="1571760"/>
            <a:ext cx="264312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Σταλαγμίτ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Οι σταλαγμίτες σχηματίζονται με τον ίδιο τρόπο με τους σταλακτίτες, από το υπόλοιπο του ανθρακικού ασβεστίου που συμπαρασύρει η σταγόνα στο πέσιμό της, το οποίο εναποθέτει στο έδαφο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11 - Εικόνα" descr="ζωγιανα.jpg"/>
          <p:cNvPicPr/>
          <p:nvPr/>
        </p:nvPicPr>
        <p:blipFill>
          <a:blip r:embed="rId1"/>
          <a:stretch/>
        </p:blipFill>
        <p:spPr>
          <a:xfrm>
            <a:off x="5448240" y="1785960"/>
            <a:ext cx="3481560" cy="43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566640" y="285840"/>
            <a:ext cx="7785360" cy="1616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2857680"/>
            <a:ext cx="7561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-382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Εργασία - Μαθητέ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Στέλλα Χαλκιαδάκ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Νίκος Μητσ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971640" y="2565360"/>
            <a:ext cx="74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gram\Desktop\ΣΕΚ 2010\ΚΡΗΤΗ\IMG_31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Δολίν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3786120"/>
            <a:ext cx="82296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λειστές λεκάνες, με διαστάσεις που φτάνουν μέχρι τα 100 μέτρα και βάθος 2-100 μέτρα. Ο πυθμένας των δολινών είναι σχετικά επίπεδος και καλύ πτεται από χημικά ιζήματα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gram\Desktop\ΣΕΚ 2010\ΚΡΗΤΗ\IMG_318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Πόλγ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9288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κλειστές κοιλότητες-λεκάνες (οροπέδια) που περιβάλλονται από όρη, βρίσκονται σε διάφορα υψόμετρα, κατακλύζονται από νερά και μετατρέπονται σε λίμνες και έλη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pic>
        <p:nvPicPr>
          <p:cNvPr id="51" name="Picture 2" descr="C:\Users\gram\Desktop\ΚΡΗΤΗ\PHOTO SLIDE\υακινθος\IMG_3181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4 - TextBox"/>
          <p:cNvSpPr/>
          <p:nvPr/>
        </p:nvSpPr>
        <p:spPr>
          <a:xfrm>
            <a:off x="1000080" y="321480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το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οροπέδιο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της Νίδα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gram\Desktop\ΣΕΚ 2010\ΚΡΗΤΗ\IMG_307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Ασβεστολιθικά πετρώματ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2 - Θέση περιεχομένου"/>
          <p:cNvSpPr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είναι τα στερεά υλικά του φλοιού της Γη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αποτελούνται από κρυστάλλους ορυκτών, κομμάτια άλλων πετρωμάτων ή και απολιθωμάτ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gram\Desktop\ΣΕΚ 2010\ΚΡΗΤΗ\P10007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2 - Θέση περιεχομένου"/>
          <p:cNvSpPr/>
          <p:nvPr/>
        </p:nvSpPr>
        <p:spPr>
          <a:xfrm>
            <a:off x="0" y="5643720"/>
            <a:ext cx="914400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Η υπόγεια διαδρομή του νερού συνδέεται άμεσα με του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ασβεστόλιθου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και τα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μάρμ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Ασβεστολιθικά πετρώματ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στον Ψηλορείτ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:\ORIGPICS\SHOW_07\IMG_3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ORIGPICS\SHOW_07\IMG_3126.JPG"/>
          <p:cNvPicPr/>
          <p:nvPr/>
        </p:nvPicPr>
        <p:blipFill>
          <a:blip r:embed="rId2"/>
          <a:stretch/>
        </p:blipFill>
        <p:spPr>
          <a:xfrm>
            <a:off x="0" y="4248000"/>
            <a:ext cx="2571840" cy="2610000"/>
          </a:xfrm>
          <a:prstGeom prst="rect">
            <a:avLst/>
          </a:prstGeom>
          <a:ln w="0">
            <a:noFill/>
          </a:ln>
        </p:spPr>
      </p:pic>
      <p:sp>
        <p:nvSpPr>
          <p:cNvPr id="61" name="1 - Τίτλος"/>
          <p:cNvSpPr/>
          <p:nvPr/>
        </p:nvSpPr>
        <p:spPr>
          <a:xfrm>
            <a:off x="42876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Πειράματα των μαθητών με Ασβεστολιθικά πετρώ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gram\Desktop\ΣΕΚ 2010\ΚΡΗΤΗ\DSCN99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Καταβόθρ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14720" y="1999800"/>
            <a:ext cx="471456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Τα  επιφανειακά και υπόγεια νερά, προχωρούν στο εσωτερικό των ασβεστολιθικών πετρωμάτων και σχηματίζουν ένα σύστημα αγωγών που μεταφέρουν το νερό  μέχρι την επιφάνεια του εδάφου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gram\IMG_3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- Τίτλος"/>
          <p:cNvSpPr/>
          <p:nvPr/>
        </p:nvSpPr>
        <p:spPr>
          <a:xfrm>
            <a:off x="50004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Ομβροδεξαμενή στα Ανώγε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6:58:54Z</dcterms:created>
  <dc:creator>gram</dc:creator>
  <dc:description/>
  <dc:language>en-US</dc:language>
  <cp:lastModifiedBy>gram</cp:lastModifiedBy>
  <dcterms:modified xsi:type="dcterms:W3CDTF">2010-05-16T08:52:22Z</dcterms:modified>
  <cp:revision>11</cp:revision>
  <dc:subject/>
  <dc:title>Σπήλαια Κρήτης</dc:title>
</cp:coreProperties>
</file>